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7B30-8789-4BA6-BB2D-088C5AD39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BAA0-93FB-480F-8DF6-CC032CA11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CDF7-3DDA-48D6-AFFC-49609306C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D125-5BC2-4E8B-8B21-C6AE4A4C0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2BCF1-8851-46D8-A45D-D30CBDB48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B49D9-D4B9-4EA9-AD32-4A7DB3302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35D98-2857-4316-B6D4-B9F22B8B0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4712F-2D85-47BD-80F4-8EEEC2C4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3E775-AD54-47A5-8836-650AA5071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BF913-FB1B-4249-937E-97CC80D4C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77616-90F3-40C7-82C5-C6908F50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661B-6493-49A3-A80F-09DFC6BA3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03CEB-89ED-41F2-B025-18075039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BD009-D418-42FF-B994-E8B7552B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324C7-60C3-4C10-96A8-4EB4EC4D0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53B1A-C395-47F1-A9F9-D7AE93CC4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4F62C-85B3-44BB-8F33-AA2D003AB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E2FF-E71F-4157-8BDB-6CE0BD19C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FF00-4840-4B8A-95DD-6C7A6A7CA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8D40-CA4B-4E53-96E7-48687C54B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4A06-4EAC-4860-9C77-D2CF2D015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237A-8708-4F42-90FB-DC15289E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0355-7C0C-452A-966A-23EAA9C8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7409-4284-4631-90A1-831562E9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67B48-8A1F-4258-B1E2-38BDDFF40E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ECDD2-87FD-4BED-94F6-531C50CD8A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itch-Then-Plan Video Planning Templat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mportant Tip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alk slowly and clearl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e enthusiastic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ractice, Practice and Practic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elax and have fun!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bout This Templat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use this template, read then delete all of the slides that have a black background.  Complete the slides that have a blue backgrou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bout Entrepreneurship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o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not learning to do, is the essence of entrepreneurshi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member, no one ever achieved success by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lann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for gol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hardest thing about getting started i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gett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tart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an (emerging) entrepreneur, you should always be selling—not strategizing about sell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roper Proces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row together a pitch that contains the slides presented in this template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ry it out on some mentors, friends, and relatives.  Do this about ten time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Get the team together in a room and discuss what you have learned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x the pitch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tart writing the script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xplain Your Movie in The First Minut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ver has a presentation been given where the audience has said to itself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 wish the speaker had spent the first fifteen minutes explaining his life stor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le you</a:t>
            </a:r>
            <a:r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 busy warming up, your listeners are inevitably wondering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s your movie abou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 everyone a favor:  Answer that question in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first minu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 Once the audience has learned what you do, they can listen to everything else with a more focused perspectiv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wonderful Hawk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0" y="312372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ldefonso Plum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duc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99E0E-959E-4576-BD8E-2000B9C1CC26}" type="datetime2"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dnesday, July 29, 2026</a:t>
            </a:fld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urpo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urpose of the movie is to tell the audiences that hawks are cool and amazing because there big and fast. I will also say what they eat and where they live. I will prove that hawks are not bad. I will prove that Hawks are better than lame old Falc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y to personalize the pitc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 Your Ide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hree act structur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very familiar for fic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t I: Characters and Setting. End with intro of problem/go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t II: Solving the problem. End with Climax: the problem gets solv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t III: Happy ever after pa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siness Mode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I will get payed is by  taking it to another  schools and show it. What else is ill upload it on the internet all put it every where. And I will show it to my friends than they show it to other people  Who will see it is the audience, a lot of other people around the worl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my movie will be special is because the picture that I will put would be so cool and I will explain a lot of stuff in my movie. How it would be different is because I will talk a little bit about what they eat. And you could might learn new stuff about Hawks. Not talking about those lame falc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20:52:09Z</dcterms:created>
  <dc:creator/>
  <dc:description/>
  <dc:language>en-US</dc:language>
  <cp:lastModifiedBy>City School</cp:lastModifiedBy>
  <dcterms:modified xsi:type="dcterms:W3CDTF">2013-02-19T21:27:54Z</dcterms:modified>
  <cp:revision>40</cp:revision>
  <dc:subject/>
  <dc:title>The Pitch-Then-Plan Business Planning Template</dc:title>
</cp:coreProperties>
</file>